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76A-A654-4A68-80EC-83548613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37F-4D80-4D6D-9C4F-87016449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D71-36AA-4474-AFF1-8515F478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2AB-FF2B-4C54-92D9-5A05A87B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A5B-45C3-4A57-AAC4-CA119CBF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FAC-7C2E-4C02-B113-3ACA40D2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472-8A00-4743-A953-C5CCEBED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FB6-6C29-4DE4-9BBB-92D69DDF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6C7-1C12-4A9D-9E42-875DD317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E1A-FECA-4256-8C4A-45CEA92C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AEE-6947-41D2-AA02-64FC5337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514-28F6-4F50-AF9B-A34A5F4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AA7D-1B97-429E-8923-14B26C3BD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Book of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Vaiva, Courtney, and A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 with Nijole Pup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Methods of Traveling to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400" t="13500" r="2400" b="4500"/>
          <a:stretch/>
        </p:blipFill>
        <p:spPr>
          <a:xfrm>
            <a:off x="6248520" y="1676520"/>
            <a:ext cx="2198520" cy="176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666880" cy="145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2222" t="8470" r="2222" b="8470"/>
          <a:stretch/>
        </p:blipFill>
        <p:spPr>
          <a:xfrm>
            <a:off x="3352680" y="1523880"/>
            <a:ext cx="254952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2133720" cy="14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1339" t="3707" r="1339" b="1853"/>
          <a:stretch/>
        </p:blipFill>
        <p:spPr>
          <a:xfrm>
            <a:off x="2514600" y="4114800"/>
            <a:ext cx="2076480" cy="149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724280" y="5257800"/>
            <a:ext cx="2000520" cy="136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1125" t="2535" r="1125" b="2535"/>
          <a:stretch/>
        </p:blipFill>
        <p:spPr>
          <a:xfrm>
            <a:off x="6858000" y="4572000"/>
            <a:ext cx="2144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1:06:34Z</dcterms:created>
  <dc:creator>Student</dc:creator>
  <dc:description/>
  <dc:language>en-US</dc:language>
  <cp:lastModifiedBy>Courtney</cp:lastModifiedBy>
  <dcterms:modified xsi:type="dcterms:W3CDTF">2009-01-13T00:22:37Z</dcterms:modified>
  <cp:revision>4</cp:revision>
  <dc:subject/>
  <dc:title>Log Book of 20th century </dc:title>
</cp:coreProperties>
</file>